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40E-5DD7-40DB-8007-116161F1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177-9D07-4BCA-8F9D-98A0967D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503-F843-451B-B591-25D5F549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F47-C7AC-42F7-85CB-809D5A0E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638-9349-4CD3-AD03-69F30CB6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890-CD5A-4C18-A2AF-7B3ABAFC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0E4-F21B-4B3C-A97D-D3FB3CF1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297-981E-412E-9D01-8E0EA2BB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EE9-7415-492F-B11A-EF376B25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234-F1EA-4D43-B16C-4955E73D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AA9-86CF-4458-9452-5C9A0D97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14D-D5B3-4C28-BE33-3133D5C3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9437-4206-4B81-8EAF-99DF8508E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f0"/>
                </a:solidFill>
                <a:latin typeface="Jokerman"/>
              </a:rPr>
              <a:t>Ugand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Jokerman"/>
              </a:rPr>
              <a:t>Nayeli Ce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This is the flag of Ug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https://www.cia.gov/library/publications/the-world-factbook/graphics/flags/large/ug-lgflag.gif"/>
          <p:cNvPicPr/>
          <p:nvPr/>
        </p:nvPicPr>
        <p:blipFill>
          <a:blip r:embed="rId1"/>
          <a:stretch/>
        </p:blipFill>
        <p:spPr>
          <a:xfrm>
            <a:off x="457200" y="1371600"/>
            <a:ext cx="8001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t0.gstatic.com/images?q=tbn:ANd9GcTMUuM-3w5c54GZ0WJdPAqt6Vde0zOxHmF2-uxPcUWjXLvYEXRn"/>
          <p:cNvPicPr/>
          <p:nvPr/>
        </p:nvPicPr>
        <p:blipFill>
          <a:blip r:embed="rId1"/>
          <a:stretch/>
        </p:blipFill>
        <p:spPr>
          <a:xfrm>
            <a:off x="1371600" y="152280"/>
            <a:ext cx="579132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Jokerman"/>
              </a:rPr>
              <a:t>HERE I A BOY MAKING A TRADITIONAL  DRUM S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075200" y="5562360"/>
            <a:ext cx="5068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Jokerman"/>
              </a:rPr>
              <a:t>here is a  a tribe of men doing a special 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hyhyhy.jpg"/>
          <p:cNvPicPr/>
          <p:nvPr/>
        </p:nvPicPr>
        <p:blipFill>
          <a:blip r:embed="rId1"/>
          <a:stretch/>
        </p:blipFill>
        <p:spPr>
          <a:xfrm>
            <a:off x="457200" y="1219320"/>
            <a:ext cx="3951360" cy="2666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images 22.jpg"/>
          <p:cNvPicPr/>
          <p:nvPr/>
        </p:nvPicPr>
        <p:blipFill>
          <a:blip r:embed="rId2"/>
          <a:stretch/>
        </p:blipFill>
        <p:spPr>
          <a:xfrm>
            <a:off x="4800600" y="2286000"/>
            <a:ext cx="38592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523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Jokerman"/>
              </a:rPr>
              <a:t>Country</a:t>
            </a: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Jokerman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Jokerman"/>
              </a:rPr>
              <a:t>-Capital city-</a:t>
            </a:r>
            <a:r>
              <a:rPr b="0" lang="en-US" sz="3200" spc="-1" strike="noStrike">
                <a:solidFill>
                  <a:srgbClr val="00ffff"/>
                </a:solidFill>
                <a:latin typeface="Jokerman"/>
              </a:rPr>
              <a:t>Kampa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Jokerman"/>
              </a:rPr>
              <a:t>-Type of gov.-</a:t>
            </a:r>
            <a:r>
              <a:rPr b="0" lang="en-US" sz="3200" spc="-1" strike="noStrike">
                <a:solidFill>
                  <a:srgbClr val="00ffff"/>
                </a:solidFill>
                <a:latin typeface="Jokerman"/>
              </a:rPr>
              <a:t>Multi party Democrac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Jokerman"/>
              </a:rPr>
              <a:t>-Major religion-</a:t>
            </a:r>
            <a:r>
              <a:rPr b="0" lang="en-US" sz="3200" spc="-1" strike="noStrike">
                <a:solidFill>
                  <a:srgbClr val="00ffff"/>
                </a:solidFill>
                <a:latin typeface="Jokerman"/>
              </a:rPr>
              <a:t>Roman Catho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Jokerman"/>
              </a:rPr>
              <a:t>-Natural resources-</a:t>
            </a:r>
            <a:r>
              <a:rPr b="0" lang="en-US" sz="3200" spc="-1" strike="noStrike">
                <a:solidFill>
                  <a:srgbClr val="00ffff"/>
                </a:solidFill>
                <a:latin typeface="Jokerman"/>
              </a:rPr>
              <a:t>Copper,Cobalt,Sa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Jokerman"/>
              </a:rPr>
              <a:t>-Literacy rate-</a:t>
            </a:r>
            <a:r>
              <a:rPr b="0" lang="en-US" sz="3200" spc="-1" strike="noStrike">
                <a:solidFill>
                  <a:srgbClr val="00ffff"/>
                </a:solidFill>
                <a:latin typeface="Jokerman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 rot="20858400">
            <a:off x="23040" y="4651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Jokerman"/>
              </a:rPr>
              <a:t>Although Uganda is in Africa they teach and speak English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 rot="20647800">
            <a:off x="6039720" y="54306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Jokerman"/>
              </a:rPr>
              <a:t>Uganda  is the size of Pennsyl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 rot="1248000">
            <a:off x="5245200" y="6919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Jokerman"/>
              </a:rPr>
              <a:t>Uganda is indipendet  since 19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 rot="1029000">
            <a:off x="182520" y="53784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Jokerman"/>
              </a:rPr>
              <a:t>Uganda is land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438280" y="15238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Jokerman"/>
              </a:rPr>
              <a:t>It has many lakes, platus , and mou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209680" y="4648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Jokerman"/>
              </a:rPr>
              <a:t>The mountain gorillas are endang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2057400" y="304812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Jokerman"/>
              </a:rPr>
              <a:t>If you are born in Uganda you live an average of 26 years less than if you are born in the U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17:21:28Z</dcterms:created>
  <dc:creator>BHISD</dc:creator>
  <dc:description/>
  <dc:language>en-US</dc:language>
  <cp:lastModifiedBy>BHISD</cp:lastModifiedBy>
  <dcterms:modified xsi:type="dcterms:W3CDTF">2012-03-01T16:17:53Z</dcterms:modified>
  <cp:revision>4</cp:revision>
  <dc:subject/>
  <dc:title>Uganda</dc:title>
</cp:coreProperties>
</file>